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F9F5-3763-41E3-8785-1895458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5C71-8CC6-47B7-AD24-DDA25793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AC40-5D68-44CD-8CE6-068A3F4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42B9-74D5-4704-B3FA-BF21D4D2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8C3-AEDC-432F-9DB1-5978EE15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70CD-DFA0-4188-AB97-192D07EF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976-3DC1-495E-AACC-271272A2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33CE-E2F7-4B8C-BFA1-1B2BCA7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06D9-3A67-494A-B266-C111339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4AE-5B72-47D6-BF38-ADA589C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009-46D6-46EA-AE62-66E992AB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4B50-4DF5-467F-B96F-0C89D38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95B1-666F-4534-A8B3-40FC611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E71E-33B5-44BA-A2A1-85E10AA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014-3BBB-48A1-AC35-0EFF7F3E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C97-4AEA-48DE-BC46-DEBEB510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983F-A999-4D38-B86A-145E74B8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7026-4FAA-4D73-BDD9-83C381C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9210-5D9E-4630-B23F-2FBB6F1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DBEE-CAC6-478A-927A-C4670ED6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35E0-71F3-4C87-94AB-AAD0C29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A526-0502-496C-937D-7AC3A8E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ECCB-7E32-4FC3-925E-03B18FF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3C52-2D1A-4C14-9BAE-0A7B163C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80C-5E6F-409A-BF54-AFF557D870E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49A-47D4-408A-AB9C-564BFFEAEF3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一个德国人眼中的中外差异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28000" y="1484280"/>
            <a:ext cx="11160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表达个人观点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44000" y="1125000"/>
            <a:ext cx="900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旅游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13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44000" y="1052280"/>
            <a:ext cx="900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审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44000" y="1268280"/>
            <a:ext cx="900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处理问题方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0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44000" y="1197000"/>
            <a:ext cx="90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日三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066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172360" y="1125000"/>
            <a:ext cx="1152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交通工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921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100720" y="1268280"/>
            <a:ext cx="1042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老人的晚年生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921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172000" y="1268280"/>
            <a:ext cx="971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洗澡时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2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44000" y="1268280"/>
            <a:ext cx="900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领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172000" y="1268280"/>
            <a:ext cx="971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孩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第二语言教学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与文化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027640" y="1125000"/>
            <a:ext cx="86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生活方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705800" cy="51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7058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一、文化的定义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文化是各族人民或群体对特定环境的适应、改造能力及其改造客观世界、人类社会和主观世界方式和成果的总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二、文化的三个层次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物质（器物）文化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制度文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观念（精神）文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、语言与文化的关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语言是文化的重要组成部分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语言是文化的主要载体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．语言是文化发展的基础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四、文化的固定模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　　　人们常用自己文化社团的观点来观察、概括不同文化的文化特点，并且认为该社团的每个成员都具有这种假定的文化特点．用这种方法概括出来的文化类型叫做“文化的固定模式”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　　　文化定式在一定程度上反映了多数人的特点，但也常常是主观片面的、根深蒂固的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美国人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幽默、随便、坦率、热情、懂得适时赞美、关心对方和家人。追求平等、对老师不盲从，喜欢物质享受、擅长社交、易交易散。话题多元，喜欢聊家庭、运动、旅游和东方文化，要融入美国社会要懂得参加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Party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的艺术。忌讳直接问薪金、年龄、婚姻状态等隐私。有相当多的人对其他国家的事情比较无知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英国人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礼貌，守本分，节俭，最有名的公德是排队，有英国人的地方就有排队的现象，守规矩的训练是从小开始的。初相识显得“冷”，含蓄、不露声色，傲慢、要维持高贵的形象，熟悉之后也颇有幽默。喜欢喝红茶，尤其是下午茶。常聊天气、足球等。不要谈宗教及有关君主制的闲话，讨厌有公司标志的礼品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法国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谈吐优雅、幽默热情，时尚而不失俭约，讲究礼节。认为法语是最优美的语言，对其他语言喜欢吹毛求疵。喜欢艺术、文化、文学、电影、展览、戏剧。巴黎人一生平均要去几十次卢浮宫。以自己的文化自豪，也充分尊重中国的文化，是欧洲国家中最懂中国的。同时也对中国文化表示迷惘。保守、不团结，喜欢单干，不太守纪律，但不喜欢赴约迟到。很少上门做客。如遇盛情邀请，要带花或巧克力给女主人。忌讳用核桃待客，厌恶墨绿色，忌送黄花。不谈个人、钱、政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德国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严谨、守法，遵守交通等一切规则，甚至家里茶杯、咖啡杯不能混用。注重环保，垃圾分类精细。对德国汽车工业很自豪，愿意谈论。打招呼互称头衔。接电话先报自己的姓。常聊音乐、科技、艺术、建筑、德国的乡村风光等话题，啤酒和足球是不可缺的。忌谈希特勒，是最大的禁忌。不谈篮球、棒球和橄榄球。约会要准时，失约要电话取消。公共场合不能发出咀嚼和喝汤的声音。上门做客要送女主人花，忌送红玫瑰、郁金香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说到德国，这个民族的严谨性和创造性不能不令我们佩服。我国有一位学者到美国兰德公司学习，兰德公司是一家开放性的公司，总部四十几个人，但外围的学者则数以千计。他有一位德国同事，有一次他们上街，他问德国人从这里到目的地要多久，德国人一言不发，等大家走了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分钟，那德国人才说：四分二十秒。－－刚才问你为什么不说呢？－－我观察了你的步伐，你每分钟走七十五步，每步走五十五公分，从这里到目的地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××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公里，所以是四分二十秒！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俄罗斯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受教育程度较高，谈吐文雅，喜爱艺术。人们有失落感，同时有很强的自尊心。有特殊的交往规矩：让烟时，不能只给一支，要递上烟盒让其自取，不要一根火柴点三个人的烟。男人吸烟要征得身旁女人的同意。出门时帮同行女士穿大衣，拉大门。谈话时看着对方不插话，表示尊敬。上厕所要说委婉语。握手要脱手套，不摇对方的手，一般关系要轻握，关系好可用力。对年长妇女别先伸手。公共场所低声交谈。忌黑色，送鲜花要送单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意大利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热情好客，如被邀请不能拒绝，否则是不礼貌。在路上见面一般是握手或简单打招呼，进行商业会晤要提前安排，但不一定准时，互赠商务性礼品很常见。喜欢谈足球、家庭或公司事物、当地新闻等。避免谈橄榄球及政治。午餐是一天中最丰盛的，一般要吃２～３小时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日本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日本是个努力吸取外来文化的民族，同时又保护固有的传统精神，因而有文化的多元性。在社会中常能看到既矛盾又并存的现象，如拘谨的上班族和放纵的下班族；专注的茶道艺术和骑摩托的暴走族；表面的谦恭和内心的倨傲。日本人对事物的钻研令人赞叹。跟日本人相处总给人拘谨、有礼、迂回的印象，团体性很强，在工作中极重视前辈后辈的关系，遵守规矩、先看别人怎么做，再跟着做。跟日本人打交道要循序渐进，日本学生在学习中喜欢刨根问底。有很强的排外情绪，一般很难打入日本人的圈子，喜欢和推崇白种人（所有的娃娃都是欧洲面孔），佩服英语好的人。如果你对日本的历史能有所了解，能帮助你更好的交流。忌讳绿色为装饰色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44000" y="1268280"/>
            <a:ext cx="9000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准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38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五、跨文化交际中的文化因素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是隐含在语言系统中的反映一个民族的心理状态、价值观念、生活方式、思维方式、道德标准、是非标准、风俗习惯、审美情趣等等的一种特殊的文化因素，这种文化因素主要体现在语言的词汇系统、语法系统和语用系统之中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语音系统中的文化因素——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词汇系统中的文化因素—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对应词的有无、范围大小、词义褒贬、引申比喻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语法系统中的文化因素—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无词形变化、意合、顺应自然的句式组织、空间时间表达的排列顺序等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语用系统中的文化因素—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称呼、招呼语、称赞和批评、邀请、宴客、交谈话题、隐私与禁忌、告辞与送客等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六、处理文化因素的原则和方法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语言中文化因素的教学是为语言教学服务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文化因素的教学要与语言教学的阶段、水平相适应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文化因素教学中，对文化的介绍要规范、客观、准确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文化因素的教学要针对学生跨文化交际中的障碍和困难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应通过交际技能训练，使文化因素转化为技能，提高交际能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100720" y="1268280"/>
            <a:ext cx="863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人际关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921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028000" y="1197000"/>
            <a:ext cx="111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排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77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44000" y="1341000"/>
            <a:ext cx="90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自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066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16720" y="1268280"/>
            <a:ext cx="82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星期日街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16720" y="1600200"/>
            <a:ext cx="82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聚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13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172000" y="1125000"/>
            <a:ext cx="971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餐馆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99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4:42:15Z</dcterms:created>
  <dc:creator>lei</dc:creator>
  <dc:description/>
  <dc:language>en-US</dc:language>
  <cp:lastModifiedBy>微软用户</cp:lastModifiedBy>
  <dcterms:modified xsi:type="dcterms:W3CDTF">2011-03-14T08:48:43Z</dcterms:modified>
  <cp:revision>112</cp:revision>
  <dc:subject/>
  <dc:title>第二讲  对外汉语教学的学科理论 </dc:title>
</cp:coreProperties>
</file>