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41E-C8E1-4751-ADD9-ED074906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214-432B-431E-8559-FBA7D01C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45C-FBCD-4CDE-A907-CAB87C09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DFF-0787-48E5-83E5-9921FCE8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7B5-2BBC-4EC2-9B76-850C0705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5F2-F61E-4273-8067-1FE8B50D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283-5123-4DA1-966F-47A8E22F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949-02E3-407F-86E4-E7086C5B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754-0AD2-4FA8-A28C-E2EF2E8C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B5D-2F8B-4724-A154-AFAB5BEB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3A1-B937-4BEF-9279-3DCF3CEB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859-FF05-44E1-AF01-0E9ADE0C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080C-7894-4A93-B511-8C3C5E4BA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三讲   市场营销调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235080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3951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六、营销调研报告的撰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676520"/>
            <a:ext cx="1904760" cy="171432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报告提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590920"/>
            <a:ext cx="1905120" cy="186696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调研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4038480"/>
            <a:ext cx="1828800" cy="190512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概况描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4343400"/>
            <a:ext cx="1981080" cy="194328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题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或预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048120"/>
            <a:ext cx="1981080" cy="182880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策建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营销策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3962520"/>
            <a:ext cx="1904760" cy="1676160"/>
          </a:xfrm>
          <a:prstGeom prst="flowChartPunchedTap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附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七、市场调研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性调查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Qualitative resear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组座谈、深度访问、实验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量调查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Quantitative  resear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函电调查、入户访问、拦截访问、观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调查问卷设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封闭式问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非法（是与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项选择（三个以上答案供选择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克量表（在坚决同意和坚决不同意间选择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义级差（在最好和最差之间选择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要量表（在最重要和最部重要之间选择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开放式问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由格式（无任何引导、暗示或限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充式（在部完整的语句中填入有关内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想式（对于给定的词汇、情节等进行联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示式（给予一幅图画，增添内容或进行联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不应采用的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每月的收入是多少？（涉及隐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每月的支出是如何分配的？（问题太抽象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是经常到这家商店来吗？（“经常”的含义是什么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喜欢这家企业吗？（回答是否真诚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星期看到我们的广告几次？（人们无法准确记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对我们的商品结构是否满意？（根据什么评价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是否赞成这种“削价倾销”的做法？（用词带有明显的倾向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营销调研的性质和意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质：营销信息的收集、分析、传递和利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对营销因素的可控能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对市场机会的分辨能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对市场趋势的预见能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对市场风险的防范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、营销信息系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息源       营销分析系统      营销决策     实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市场调研       营销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部          数据库     决策支    营销经    （ 销售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资料源                       持系统    理决策         利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顾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部            信息处理专家                            反应）                资料源                                           反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666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3733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6324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257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5867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5257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2286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286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276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767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2670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6483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6095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59092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6095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案头调研（二手资料的收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手资料来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部会计系统、相关资料积累、外部情报系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手资料收集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建立二手资料档案，选择外部资料来源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统一数据名和系统进入方法（分类储存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市场调研（原始资料的收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性调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组座谈、深度访问、实验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量调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电调查、入户访问、拦截访问、观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、市场调研过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9051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出任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5909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276720"/>
            <a:ext cx="1752840" cy="91440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标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3886200"/>
            <a:ext cx="1828800" cy="91440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1981080"/>
            <a:ext cx="1281240" cy="213372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2971800"/>
            <a:ext cx="2057400" cy="106668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汇总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8098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理报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648320"/>
            <a:ext cx="1904760" cy="990360"/>
          </a:xfrm>
          <a:prstGeom prst="ellipse">
            <a:avLst/>
          </a:prstGeom>
          <a:gradFill rotWithShape="0">
            <a:gsLst>
              <a:gs pos="0">
                <a:srgbClr val="b3b38f"/>
              </a:gs>
              <a:gs pos="50000">
                <a:srgbClr val="ffffcc"/>
              </a:gs>
              <a:gs pos="100000">
                <a:srgbClr val="b3b38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追踪调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四、市场调研的注意要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33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标的选择准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资料收集全面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方法科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环境时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几种典型的市场调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费者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市场规模、市场结构、购买偏好、行为特征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市场竞争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供应总量、市场份额、主要品牌、品牌忠实度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通渠道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主要流通环节、中间商类型、中间商品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交易条件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市场趋势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相关因素排列、发展轨迹分析、未来环境变化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商圈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人口及结构、客流及结构、消费及购物习惯、区域功能性质、商圈竞争状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企业形象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知名度、美誉度、偏好度、形象因素评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9T04:37:59Z</dcterms:created>
  <dc:creator>晁钢令</dc:creator>
  <dc:description/>
  <dc:language>en-US</dc:language>
  <cp:lastModifiedBy>晁钢令</cp:lastModifiedBy>
  <dcterms:modified xsi:type="dcterms:W3CDTF">2000-02-28T12:56:55Z</dcterms:modified>
  <cp:revision>9</cp:revision>
  <dc:subject/>
  <dc:title>第三讲   市场营销调研</dc:title>
</cp:coreProperties>
</file>