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B63-1808-4153-BDDB-63FA0833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1D6-6793-4D18-B5F0-28900E1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080-76D3-4F78-A4BC-AE090F1B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20D-4137-4073-83F5-DFB370A2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63D-429C-43FF-8659-1B2201B5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AEB-7216-4E2B-9867-601542B6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CE4-DD81-4717-92C9-5008A775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E21-FE26-4AF9-BA24-B7CF2A5E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B26-EFA5-4025-AE8C-F6263C1B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FC6-D2C6-458B-8160-8BE2932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0A1-2E6A-4296-BF8E-5403BCB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2BC-0C31-4D82-9A1B-B1CADEBE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DA85-03CC-4619-8C27-90D9AA365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营销决策与策划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晁钢令  主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5715000" cy="19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443-5ADB-413B-8A2D-122A4C0C67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野马车”的上市策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2666880"/>
            <a:ext cx="1143000" cy="13716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2895480"/>
            <a:ext cx="1828800" cy="1171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743200"/>
            <a:ext cx="976320" cy="1095480"/>
          </a:xfrm>
          <a:custGeom>
            <a:avLst/>
            <a:gdLst>
              <a:gd name="textAreaLeft" fmla="*/ 0 w 976320"/>
              <a:gd name="textAreaRight" fmla="*/ 976680 w 9763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3048120"/>
            <a:ext cx="1890720" cy="152388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981080"/>
            <a:ext cx="1904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657600"/>
            <a:ext cx="18288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2362320"/>
            <a:ext cx="2043000" cy="1323720"/>
          </a:xfrm>
          <a:custGeom>
            <a:avLst/>
            <a:gdLst>
              <a:gd name="textAreaLeft" fmla="*/ 0 w 2043000"/>
              <a:gd name="textAreaRight" fmla="*/ 2043360 w 2043000"/>
              <a:gd name="textAreaTop" fmla="*/ 0 h 1323720"/>
              <a:gd name="textAreaBottom" fmla="*/ 1324080 h 13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3200400"/>
            <a:ext cx="1981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4419720"/>
            <a:ext cx="1981080" cy="144756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38560" y="2286000"/>
            <a:ext cx="9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预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50200" y="3168720"/>
            <a:ext cx="73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1800" y="3930480"/>
            <a:ext cx="73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持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47480" y="2438280"/>
            <a:ext cx="73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贴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1360" y="3429000"/>
            <a:ext cx="73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648320"/>
            <a:ext cx="1981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渠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D7A-7085-4B2F-9630-F2BF76408F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        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五、营销计划书的编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971800"/>
            <a:ext cx="914400" cy="2590920"/>
          </a:xfrm>
          <a:custGeom>
            <a:avLst/>
            <a:gdLst>
              <a:gd name="textAreaLeft" fmla="*/ 0 w 914400"/>
              <a:gd name="textAreaRight" fmla="*/ 914760 w 91440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971800"/>
            <a:ext cx="838080" cy="2514600"/>
          </a:xfrm>
          <a:custGeom>
            <a:avLst/>
            <a:gdLst>
              <a:gd name="textAreaLeft" fmla="*/ 0 w 838080"/>
              <a:gd name="textAreaRight" fmla="*/ 838440 w 8380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971800"/>
            <a:ext cx="1066680" cy="25146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/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/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2971800"/>
            <a:ext cx="914400" cy="2514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2971800"/>
            <a:ext cx="914400" cy="2514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971800"/>
            <a:ext cx="838440" cy="2514600"/>
          </a:xfrm>
          <a:custGeom>
            <a:avLst/>
            <a:gdLst>
              <a:gd name="textAreaLeft" fmla="*/ 0 w 838440"/>
              <a:gd name="textAreaRight" fmla="*/ 838800 w 8384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2971800"/>
            <a:ext cx="838080" cy="2514600"/>
          </a:xfrm>
          <a:custGeom>
            <a:avLst/>
            <a:gdLst>
              <a:gd name="textAreaLeft" fmla="*/ 0 w 838080"/>
              <a:gd name="textAreaRight" fmla="*/ 838440 w 8380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971800"/>
            <a:ext cx="914400" cy="2514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1a181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58E-3025-4871-9C36-9B08444525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六、营销策划运用的科学原理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管理经济学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最优化法则、成本效益分析、风险分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管理哲学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系统论、控制论、信息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学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市场机会、目标市场、营销策略组合、营销控制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708-10C0-4298-A85A-5DB22F0942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结论：科学与智慧的组合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是一门科学：有抽象的理论与基本的规律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是一门艺术：需要新颖的创意和动人的魅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在实践中的再创造，市场营销就无生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554120" cy="18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110-071B-4D34-8D7F-C3E8E2B27E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华文中宋"/>
                <a:ea typeface="华文中宋"/>
              </a:rPr>
              <a:t>第一讲     概    述</a:t>
            </a: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一、营销决策与策划的重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是一门经营哲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环境变化需要科学决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代企业家必须善于策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EAE-1296-4CF7-8C85-41984DF25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市场营销学是一门经营哲学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毫不奇怪，今天能取得胜利的公司必定是那些最能使它们的目标顾客得到满足，并感到愉悦的公司。这些公司把市场营销看成是公司整体的哲学，而不仅仅是某一部门的个别职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－ 菲利普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科特勒《营销管理》第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版序言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这本书在使读者掌握企业提高市场契合度和顾客认同度的同时，更给读者带来了对市场营销哲学的生动感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－菲利普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科特勒 《营销管理（亚洲版〕》序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946-08E9-4626-8558-FD852279C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市场营销学是一门经营哲学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286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057400"/>
            <a:ext cx="5257800" cy="9907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28" y="0"/>
                </a:lnTo>
                <a:lnTo>
                  <a:pt x="21600" y="10800"/>
                </a:lnTo>
                <a:lnTo>
                  <a:pt x="1612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fbf99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顾客需要的满足为核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429000"/>
            <a:ext cx="5257800" cy="9907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28" y="0"/>
                </a:lnTo>
                <a:lnTo>
                  <a:pt x="21600" y="10800"/>
                </a:lnTo>
                <a:lnTo>
                  <a:pt x="1612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fbf99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企业长期的发展为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800600"/>
            <a:ext cx="5257800" cy="9907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28" y="0"/>
                </a:lnTo>
                <a:lnTo>
                  <a:pt x="21600" y="10800"/>
                </a:lnTo>
                <a:lnTo>
                  <a:pt x="1612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fbf99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营销策略的组合为手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6400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2057400"/>
            <a:ext cx="1905120" cy="1066680"/>
          </a:xfrm>
          <a:prstGeom prst="ellipse">
            <a:avLst/>
          </a:prstGeom>
          <a:gradFill rotWithShape="0">
            <a:gsLst>
              <a:gs pos="0">
                <a:srgbClr val="d7acd7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质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352680"/>
            <a:ext cx="1905120" cy="1067040"/>
          </a:xfrm>
          <a:prstGeom prst="ellipse">
            <a:avLst/>
          </a:prstGeom>
          <a:gradFill rotWithShape="0">
            <a:gsLst>
              <a:gs pos="0">
                <a:srgbClr val="d7acd7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态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4800600"/>
            <a:ext cx="1904760" cy="1066680"/>
          </a:xfrm>
          <a:prstGeom prst="ellipse">
            <a:avLst/>
          </a:prstGeom>
          <a:gradFill rotWithShape="0">
            <a:gsLst>
              <a:gs pos="0">
                <a:srgbClr val="d7acd7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62B-0594-4908-BC7A-A2BF838EB1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市场环境变化需要科学决策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供求关系发生根本变化，短缺经济现象基本结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代企业制度建立，企业职能发生重大变化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外开放步伐加快，国内市场国际化现象已经形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424-4D12-4263-88ED-B120ECD34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  <a:ea typeface="华文新魏"/>
              </a:rPr>
              <a:t>现代企业家必须善于策划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营销需要明显的个性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才”与“帅才”的区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企业家的地位、责任与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619-F755-44A0-B23D-FF57165380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二、营销决策与策划的主要任务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市场机会的分析与利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品决策与市场开发的策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渠道决策与市场布局的策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销决策与市场拓展的策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竞争决策与市场竞争的策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营销控制与策划效果的评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F30-9F7B-4403-A3A5-96E9F1BD3F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          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三、企业营销部的主要职能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  <a:ea typeface="华文中宋"/>
              </a:rPr>
              <a:t>：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057400"/>
            <a:ext cx="2819520" cy="1676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3b38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市场调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343400"/>
            <a:ext cx="2819520" cy="1676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3b38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营销策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981080"/>
            <a:ext cx="2819160" cy="1676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3b38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企业诊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267080"/>
            <a:ext cx="2819160" cy="1676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3b38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决策咨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9B9-C465-44B0-8EE2-6964BAA5C9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b1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         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  <a:ea typeface="华文中宋"/>
              </a:rPr>
              <a:t>四、营销策划的基本步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057400"/>
            <a:ext cx="1828800" cy="121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研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514600"/>
            <a:ext cx="2057400" cy="1295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确定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581280"/>
            <a:ext cx="198108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3200400"/>
            <a:ext cx="2057400" cy="1295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制定方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267080"/>
            <a:ext cx="198108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施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5181480"/>
            <a:ext cx="1828800" cy="121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abab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效果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E10-1310-46B8-8324-8FCC096C6E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5T06:24:52Z</dcterms:created>
  <dc:creator>晁钢令</dc:creator>
  <dc:description/>
  <dc:language>en-US</dc:language>
  <cp:lastModifiedBy>晁钢令</cp:lastModifiedBy>
  <dcterms:modified xsi:type="dcterms:W3CDTF">2000-02-09T12:51:13Z</dcterms:modified>
  <cp:revision>16</cp:revision>
  <dc:subject/>
  <dc:title>营销决策与策划</dc:title>
</cp:coreProperties>
</file>