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3C9-3E4F-4F58-B782-454A0688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D3B-8082-44A2-8325-4933D396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0D5-C9B6-4B6C-8DDC-3498BD3B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412-E768-4FF1-9310-B64E6740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EBB-E67C-4BCA-84E7-74F4068A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D54-ABFA-4424-A055-6289CD04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90B-AE6C-4AA0-9827-94EDB857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9C3-C0CB-4FA7-941B-1019D517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0F3-1A59-4DC4-919A-DBCE24FF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114-46AF-4DE1-8201-7B0BF9F2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EF2-74E5-43AC-9F26-DCB8C107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B11-A4A3-4E3C-8CEA-A0048EEF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B788-EF57-40BB-9C5A-CE7CA600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七讲  市场竞争的决策与策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5769000" cy="205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246528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B72-551E-473D-BB6A-94C87FA3D9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市场竞争的主要理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竞争力理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362320"/>
            <a:ext cx="2286000" cy="685800"/>
          </a:xfrm>
          <a:prstGeom prst="rect">
            <a:avLst/>
          </a:prstGeom>
          <a:gradFill rotWithShape="0">
            <a:gsLst>
              <a:gs pos="0">
                <a:srgbClr val="99bfbf"/>
              </a:gs>
              <a:gs pos="50000">
                <a:srgbClr val="ccffff"/>
              </a:gs>
              <a:gs pos="100000">
                <a:srgbClr val="99bfb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潜在进入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5638680"/>
            <a:ext cx="2286000" cy="685800"/>
          </a:xfrm>
          <a:prstGeom prst="rect">
            <a:avLst/>
          </a:prstGeom>
          <a:gradFill rotWithShape="0">
            <a:gsLst>
              <a:gs pos="0">
                <a:srgbClr val="99bfbf"/>
              </a:gs>
              <a:gs pos="50000">
                <a:srgbClr val="ccffff"/>
              </a:gs>
              <a:gs pos="100000">
                <a:srgbClr val="99bfb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替代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733920"/>
            <a:ext cx="2666880" cy="1143000"/>
          </a:xfrm>
          <a:prstGeom prst="rect">
            <a:avLst/>
          </a:prstGeom>
          <a:gradFill rotWithShape="0">
            <a:gsLst>
              <a:gs pos="0">
                <a:srgbClr val="99bfbf"/>
              </a:gs>
              <a:gs pos="50000">
                <a:srgbClr val="ccffff"/>
              </a:gs>
              <a:gs pos="100000">
                <a:srgbClr val="99bfb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业竞争对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现有企业竞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962520"/>
            <a:ext cx="1524240" cy="685800"/>
          </a:xfrm>
          <a:prstGeom prst="rect">
            <a:avLst/>
          </a:prstGeom>
          <a:gradFill rotWithShape="0">
            <a:gsLst>
              <a:gs pos="0">
                <a:srgbClr val="99bfbf"/>
              </a:gs>
              <a:gs pos="50000">
                <a:srgbClr val="ccffff"/>
              </a:gs>
              <a:gs pos="100000">
                <a:srgbClr val="99bfb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供应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3962520"/>
            <a:ext cx="1524240" cy="685800"/>
          </a:xfrm>
          <a:prstGeom prst="rect">
            <a:avLst/>
          </a:prstGeom>
          <a:gradFill rotWithShape="0">
            <a:gsLst>
              <a:gs pos="0">
                <a:srgbClr val="99bfbf"/>
              </a:gs>
              <a:gs pos="50000">
                <a:srgbClr val="ccffff"/>
              </a:gs>
              <a:gs pos="100000">
                <a:srgbClr val="99bfb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购买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832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943600" y="4343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200400"/>
            <a:ext cx="16765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进入者威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3886200"/>
            <a:ext cx="10670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侃价实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5064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侃价实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5105520"/>
            <a:ext cx="1828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替代品威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8DC-08E9-47AE-A74D-3F0DA16901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竞争的基本战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819520"/>
            <a:ext cx="236232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成本领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2819520"/>
            <a:ext cx="236196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新立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4114800"/>
            <a:ext cx="236232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本集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4114800"/>
            <a:ext cx="236196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色集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19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82000" y="111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战略优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2400" y="295056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战略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93640" y="299232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09480" y="42670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市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6032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本优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9404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色优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4191120"/>
            <a:ext cx="17524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标市场集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DB0-D2F8-4C4E-89B6-06AC76CBA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基准营销理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概念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以最主要竞争对手或行业领导者业绩和行为为基准，进行比较、规划、设计、行动，已达到最有目标的经营管理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71880" y="2743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准化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7400" y="3373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准量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0016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准实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23240" y="4114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准差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18800" y="45720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程度、何处、何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76480" y="4114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差异弥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2840" y="45720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知识、实践、过程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4952880"/>
            <a:ext cx="289548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管理责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组织联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全员参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最优运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2971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971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A51-8A42-4AA0-B87F-5AA8515E73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准化过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2920" y="14684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8760" y="2438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18760" y="3429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综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18760" y="4343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18760" y="5257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1371600"/>
            <a:ext cx="533412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决定基准目标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找出同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确定资料收集方式并收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362320"/>
            <a:ext cx="53341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寻找目前差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规划未来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3352680"/>
            <a:ext cx="53341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研究基准能够接受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确定管理责任与职能目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343400"/>
            <a:ext cx="53341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开发行动计划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行动与过程控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重新调整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5334120"/>
            <a:ext cx="53341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取得领先地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总结并提炼经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458200" y="18284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01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1FD-CED8-4BA7-807D-1D1CD4FE62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 市场竞争实践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分析竞争态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企业所处的市场地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企业的主要竞争对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企业优劣势分析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竞争环境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71A-717E-4E2D-9915-40FC15050E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明确竞争性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进取性还是防御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排他性还是共处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竞争障碍的设置与排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规模、专利、转换成本、资本、渠道、政策、风险）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AB0-9B7C-48B0-A16D-DCE7FF315F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4a4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、具体竞争策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满足潜在需求为目标的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入为主、后发制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满足程度为目标的竞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延扩展、内涵改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确立领先地位为目标的竞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积极创新、梯度转移、设置陷阱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培养品牌忠实度为目标的竞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质型、观念型、环境型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371-83AF-4584-B31C-A12715BCAC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13:23:56Z</dcterms:created>
  <dc:creator>晁钢令</dc:creator>
  <dc:description/>
  <dc:language>en-US</dc:language>
  <cp:lastModifiedBy>晁钢令</cp:lastModifiedBy>
  <dcterms:modified xsi:type="dcterms:W3CDTF">2000-02-09T14:00:03Z</dcterms:modified>
  <cp:revision>4</cp:revision>
  <dc:subject/>
  <dc:title>第七讲  市场竞争的决策与策划</dc:title>
</cp:coreProperties>
</file>