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4DA-8F1C-4A25-9B16-EB21F328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1B0-2463-47D4-9098-D307B238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0E7-B3F7-4F3F-883D-567D9F65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814-116D-4FC1-BA14-B0D7A160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945-2F18-4988-ACD7-5E33ACD0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A45-F041-4541-86CF-85050E5A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EC5-F306-462F-8C68-7DF1C4AF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64D-C63F-4B2C-80EF-35A59DE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5D2-ADFF-4AD4-92E6-CFDFEC7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5D3-1005-48E6-976C-8257F3B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EA4-D8B8-4021-94E8-9526A2F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AF0-C59B-48BE-9126-BE49840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1159-37E9-4000-8AFD-BDA0F5FE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五讲  市场布局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64008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185760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913-3208-4417-B44A-9CD65339A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商圈调查的典型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676520"/>
          <a:ext cx="776124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6124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2120" y="30481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4956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133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6520" y="3276720"/>
            <a:ext cx="790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相对距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8DE-8FDE-48DB-91D7-9EB795F50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日用品购买频率对商圈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057400"/>
          <a:ext cx="7229520" cy="41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29520" cy="41925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022-CDFB-43EA-AA2B-24CF434D48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五、现代市场布局的发展趋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锁经营的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营销的发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配送中心与“供应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161-3D76-42B3-97A0-84D8CE149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锁经营发展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全国现有连锁公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连锁门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分别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增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倍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海现有连锁超市公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连锁门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家，营业面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平方米，销售额超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为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统计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16A-6A48-4942-9738-4A1209E024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世纪之交，中国进入网络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前中国上网人数已超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家信息产业部预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信息经济领域的增加值将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用户将增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户以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上经济的规模将超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AF6-E5C1-49EE-89DC-275CDBA93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布局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大限度地满足消费需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为有效地分销企业产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最为经济地控制营销成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65E-A8FD-4475-8C95-DA4621F5F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市场布局的主要方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本方针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048120"/>
            <a:ext cx="19814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泛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14800"/>
            <a:ext cx="19810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19810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片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28600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8788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策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3124080"/>
            <a:ext cx="22100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集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91120"/>
            <a:ext cx="221004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度推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181480"/>
            <a:ext cx="2209680" cy="914400"/>
          </a:xfrm>
          <a:prstGeom prst="ellipse">
            <a:avLst/>
          </a:prstGeom>
          <a:gradFill rotWithShape="0">
            <a:gsLst>
              <a:gs pos="0">
                <a:srgbClr val="9494b9"/>
              </a:gs>
              <a:gs pos="50000">
                <a:srgbClr val="ccccff"/>
              </a:gs>
              <a:gs pos="100000">
                <a:srgbClr val="9494b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跳跃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0BF-53E5-478E-A0BC-CE9025B69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布局决策的主要依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区域性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口与购买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购物便利性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通条件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竞争状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障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趋势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60F-DD29-41EB-890E-C688A7BCA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企业分销方式的演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276720"/>
            <a:ext cx="2586240" cy="2662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传统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选择单一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销售渠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2586240" cy="2814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现代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建立庞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分销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1371600"/>
            <a:ext cx="2585880" cy="289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发展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开展积极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网络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88B-7421-4457-A298-A365AC4C7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网络销售示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统销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销售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需要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0"/>
            <a:ext cx="16761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供应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286000"/>
            <a:ext cx="18288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批发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2286000"/>
            <a:ext cx="18288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零售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286000"/>
            <a:ext cx="1676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6668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6668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6668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343400"/>
            <a:ext cx="152388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应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4267080"/>
            <a:ext cx="152388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572000"/>
            <a:ext cx="1295280" cy="1447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419720"/>
            <a:ext cx="1662120" cy="1752480"/>
          </a:xfrm>
          <a:prstGeom prst="rightArrow">
            <a:avLst>
              <a:gd name="adj1" fmla="val 62370"/>
              <a:gd name="adj2" fmla="val 25028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495680"/>
            <a:ext cx="1600200" cy="1676520"/>
          </a:xfrm>
          <a:prstGeom prst="leftArrow">
            <a:avLst>
              <a:gd name="adj1" fmla="val 64324"/>
              <a:gd name="adj2" fmla="val 25042"/>
            </a:avLst>
          </a:prstGeom>
          <a:solidFill>
            <a:srgbClr val="ff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419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6095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ED1-5321-42C1-8AF6-4B7FCFB8D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网络销售必要的前提条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顾客资料库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稳定供应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建立便捷沟通方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提供完善配套服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络销售必须进行宣传和包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9E1-2B34-4C97-BE39-BB70DBFA2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商业布局的基本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商圈”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商圈”的含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影响“商圈”的基本因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引客效应（向心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对距离（辐射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在竞争（离心力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然障碍（偏心度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20E-E656-472B-8F36-00FDD649B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d92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商圈吸引力的估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商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商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商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905120"/>
            <a:ext cx="3581280" cy="3809880"/>
          </a:xfrm>
          <a:prstGeom prst="ellipse">
            <a:avLst/>
          </a:prstGeom>
          <a:gradFill rotWithShape="0">
            <a:gsLst>
              <a:gs pos="0">
                <a:srgbClr val="9d9dc5"/>
              </a:gs>
              <a:gs pos="50000">
                <a:srgbClr val="ccccff"/>
              </a:gs>
              <a:gs pos="100000">
                <a:srgbClr val="9d9dc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8098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733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14600"/>
            <a:ext cx="2514600" cy="2590920"/>
          </a:xfrm>
          <a:prstGeom prst="ellipse">
            <a:avLst/>
          </a:prstGeom>
          <a:gradFill rotWithShape="0">
            <a:gsLst>
              <a:gs pos="0">
                <a:srgbClr val="94abb9"/>
              </a:gs>
              <a:gs pos="50000">
                <a:srgbClr val="ccecff"/>
              </a:gs>
              <a:gs pos="100000">
                <a:srgbClr val="94abb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%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048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a7a7a7"/>
              </a:gs>
              <a:gs pos="50000">
                <a:srgbClr val="ffffff"/>
              </a:gs>
              <a:gs pos="100000">
                <a:srgbClr val="a7a7a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%-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2FF-CF97-4933-B178-76CE37DA1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5:24:05Z</dcterms:created>
  <dc:creator>晁钢令</dc:creator>
  <dc:description/>
  <dc:language>en-US</dc:language>
  <cp:lastModifiedBy>晁钢令</cp:lastModifiedBy>
  <dcterms:modified xsi:type="dcterms:W3CDTF">2000-05-01T13:21:14Z</dcterms:modified>
  <cp:revision>8</cp:revision>
  <dc:subject/>
  <dc:title>第五讲  市场布局的决策与策划</dc:title>
</cp:coreProperties>
</file>