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219-9072-44A7-893C-DC36F2BE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AE0-850A-4B87-B1A7-8405C73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F77-6555-474D-970A-B86F7C12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F76-CBBB-4B36-967A-0A08110D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B19-EF3A-45ED-928F-8DDABD2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D1D-D1C0-427E-8A34-0F55E50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2EE-FFAD-4242-8B3C-C2132CD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E8A-DDD0-4A88-A090-6EB61B4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F3E-BF3E-4E8F-8D56-21588BE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F28-A0B0-491B-A26C-7369926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2F1-B006-48C6-82A9-EC079ED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627-CA62-47EE-9EC1-9B801003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E01-775E-433A-B90F-48C35C2BE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四讲  市场开发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51847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1090440" cy="22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DD1-1E24-4B05-9F19-4F18F60305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五、市场占位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的占位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占位策略（抢位、错位、让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861-3724-42D8-9C1B-CB33F08775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开发的主要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企业寻找新的市场领域、投资方向和设计进入方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发现潜在需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开发适销产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计进入方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C1B-E259-418A-8AC5-B2B93DDD3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发现潜在需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求研究可发掘无穷的市场资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递增需求—— 需求的深度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生需求—— 需求的广度发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01B-B3A9-4D42-8279-79B131C14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开发适当产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概念的理论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形与无形 —— 产品外延的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整体概念——产品内涵的深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AE7-A8E2-40FF-AF8A-37643A9ECC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整体概念                    产品需求层次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33520"/>
            <a:ext cx="3733560" cy="4038480"/>
          </a:xfrm>
          <a:prstGeom prst="ellipse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2590920" cy="289584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1676520" cy="1828800"/>
          </a:xfrm>
          <a:prstGeom prst="ellipse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0880"/>
            <a:ext cx="4397400" cy="449604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838080"/>
            <a:ext cx="3436920" cy="358164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1371600"/>
            <a:ext cx="2476440" cy="243828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82880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209680"/>
            <a:ext cx="879480" cy="838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利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8520" y="1736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形态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9280" y="1218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附加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9280" y="685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文化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2680" y="1904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基本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12680" y="14475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期望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2680" y="990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扩展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12680" y="456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潜在产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EAF-68CC-429E-A070-C9CF965C4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准化产品、细分化产品、系列化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特色的含义与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的“广义包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CBF-6CA3-4C29-B58B-5DFD4BBAC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286000"/>
            <a:ext cx="1752480" cy="31240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众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86000"/>
            <a:ext cx="1752840" cy="312408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细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2362320"/>
            <a:ext cx="1752480" cy="31240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制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800" y="8679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定制化营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BE7-9D0C-4BA2-BBE9-DA36B9DDE6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600200"/>
            <a:ext cx="2895480" cy="16002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柔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生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523880"/>
            <a:ext cx="1981080" cy="36576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制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营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505320"/>
            <a:ext cx="2895840" cy="160020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D47-C948-4DAB-BCF5-A1FABE6736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f7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设计进入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入期望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高知名度、缩短导入期、减少竞争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进入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形象目标（高位型、低位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宣传形式（造势型、渐进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传统关系（创牌型、传牌型、借牌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进入环节（推动型、拉动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AC0-99A9-4182-A6DE-73761941F2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9T08:05:22Z</dcterms:created>
  <dc:creator>晁钢令</dc:creator>
  <dc:description/>
  <dc:language>en-US</dc:language>
  <cp:lastModifiedBy>晁钢令</cp:lastModifiedBy>
  <dcterms:modified xsi:type="dcterms:W3CDTF">2000-04-18T13:41:46Z</dcterms:modified>
  <cp:revision>4</cp:revision>
  <dc:subject/>
  <dc:title>第四讲  市场开发的决策与策划</dc:title>
</cp:coreProperties>
</file>