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ABA-C77B-45D2-8DAC-E926FBD6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7D0-B7C2-4AA5-A755-8E423691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2DE-690C-4D78-9E60-0D8B7302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BA6-3366-4CEF-A655-4FFC07CC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8F9-97A8-4313-A0E1-10DA1B05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5DE-A270-4F02-99EB-C0736A93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40D-12B9-45D2-A1B2-5E9B2234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94F-F1EE-4CDE-86F2-33BB8A9C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4AA-FE51-4E45-BFF7-367FEC86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EF4-1C11-4A19-8ABF-CF093483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4B5-E998-4E89-B443-53E2ABC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5FF-306E-4DD3-BDF9-35A64584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A560-1903-4CC0-80E5-AFAC184A9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E82-0B35-4075-BF46-56194DE467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二讲   市场机会的寻求与把握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4740120" cy="222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309-8C11-4882-9EC0-A381162913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一、市场机会的含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市场机会是由消费者尚未满足的需求而形成的，对企业经营发展相对有利的时机与条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市场机会存在的必然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需求与供应在数量上的不平衡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需求与供应在结构上的不平衡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需求与供应在发展上 的不平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4A0-A3E0-4B1B-873A-D0A3406808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二、市场机会的类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981080"/>
            <a:ext cx="4038840" cy="9144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显在的市场机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124080"/>
            <a:ext cx="4038840" cy="9144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前兆型市场机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191120"/>
            <a:ext cx="4038840" cy="9144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突发型市场机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257800"/>
            <a:ext cx="4038840" cy="9144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100000">
                <a:srgbClr val="9933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诱发型市场机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828800"/>
            <a:ext cx="2438640" cy="10666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600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填补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2971800"/>
            <a:ext cx="2438280" cy="10666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600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追随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4114800"/>
            <a:ext cx="2438280" cy="10666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600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捕捉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5257800"/>
            <a:ext cx="2438280" cy="10666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600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诱导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50A-51BB-404F-AF1C-E6F2C63CAC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三、寻求与把握市场机会的方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填补法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差量填补、功能填补、结构填补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追随法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梯度追随、时尚追随、关联追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诱导法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－开发产品、转变观念、改变环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246-9A37-4BBB-B0C8-AEE5F54324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四、企业市场机会的利用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市场机会的评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46360" y="2819520"/>
            <a:ext cx="236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成功概率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                       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2200" y="4038480"/>
            <a:ext cx="3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56680" y="405936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809880"/>
            <a:ext cx="3886200" cy="2057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               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              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27C-A56C-435C-B29C-F22D19536D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面对不同机会的业务类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981080"/>
            <a:ext cx="3124080" cy="1676520"/>
          </a:xfrm>
          <a:prstGeom prst="hexagon">
            <a:avLst>
              <a:gd name="adj" fmla="val 46586"/>
              <a:gd name="vf" fmla="val 115470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理想的业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机会多，威胁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2057400"/>
            <a:ext cx="3124080" cy="1676520"/>
          </a:xfrm>
          <a:prstGeom prst="hexagon">
            <a:avLst>
              <a:gd name="adj" fmla="val 46586"/>
              <a:gd name="vf" fmla="val 115470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风险的业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机会多，威胁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4191120"/>
            <a:ext cx="3124440" cy="1676160"/>
          </a:xfrm>
          <a:prstGeom prst="hexagon">
            <a:avLst>
              <a:gd name="adj" fmla="val 46601"/>
              <a:gd name="vf" fmla="val 115470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成熟的业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机会少，威胁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4191120"/>
            <a:ext cx="3124080" cy="1676160"/>
          </a:xfrm>
          <a:prstGeom prst="hexagon">
            <a:avLst>
              <a:gd name="adj" fmla="val 46596"/>
              <a:gd name="vf" fmla="val 115470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麻烦的业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机会少，威胁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F15-E44D-4688-BF9E-EEE52DB0C1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五、掌握市场机会的必要条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自身资源与优势的准确估价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市场情报资料的广泛了解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强烈的进取心和高度的敏感性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201-DED7-4EC3-BD92-914313C304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2T12:13:22Z</dcterms:created>
  <dc:creator>晁钢令</dc:creator>
  <dc:description/>
  <dc:language>en-US</dc:language>
  <cp:lastModifiedBy>晁钢令</cp:lastModifiedBy>
  <cp:lastPrinted>1998-06-24T01:17:20Z</cp:lastPrinted>
  <dcterms:modified xsi:type="dcterms:W3CDTF">2000-03-09T00:09:26Z</dcterms:modified>
  <cp:revision>8</cp:revision>
  <dc:subject/>
  <dc:title>第四讲 市场机会：营销成功的基本前提</dc:title>
</cp:coreProperties>
</file>