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669-EE37-4212-9895-803ED974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CC1-0C84-4C11-B9D5-37673D8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319-91B8-4101-9E6F-CAA63C76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BB2-25EC-4CCD-BDD6-67507A41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DC3-2FCC-4632-B8FE-517E8A2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815-43BC-47D7-97F1-5B4AADB8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A3B-3B84-40A3-B249-F8A94484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CB1-4028-437A-83D1-DE049D5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880-D301-4D4A-B1A7-0CF388B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659-C96F-40EB-BDD7-B7A76EE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0F5-E295-4DF1-A038-8E22D63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29A-1C65-4349-BC7A-90482EE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791E-C90D-44DB-83B1-715CC2613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255-5153-4708-A9FA-07D9DA0C3D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二讲   市场机会的寻求与把握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740120" cy="222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259-79BD-40CE-85AF-049B89CAA8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一、市场机会的含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市场机会是由消费者尚未满足的需求而形成的，对企业经营发展相对有利的时机与条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市场机会存在的必然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需求与供应在数量上的不平衡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需求与供应在结构上的不平衡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需求与供应在发展上 的不平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61A-E508-4D6C-994C-FD36414F5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二、市场机会的类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8108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显在的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12408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前兆型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19112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突发型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25780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诱发型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828800"/>
            <a:ext cx="243864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填补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29718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追随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41148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捕捉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52578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诱导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629-A955-4838-AD3E-256F5AD47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三、寻求与把握市场机会的方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填补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差量填补、功能填补、结构填补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追随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梯度追随、时尚追随、关联追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诱导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开发产品、转变观念、改变环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E82-802D-4CE0-8043-546EC4300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四、企业市场机会的利用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市场机会的评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46360" y="2819520"/>
            <a:ext cx="236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成功概率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                       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2200" y="403848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56680" y="405936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09880"/>
            <a:ext cx="3886200" cy="2057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               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              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D38-8EF5-47F9-A2DC-F14ED0497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面对不同机会的业务类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981080"/>
            <a:ext cx="3124080" cy="1676520"/>
          </a:xfrm>
          <a:prstGeom prst="hexagon">
            <a:avLst>
              <a:gd name="adj" fmla="val 46586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理想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多，威胁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2057400"/>
            <a:ext cx="3124080" cy="1676520"/>
          </a:xfrm>
          <a:prstGeom prst="hexagon">
            <a:avLst>
              <a:gd name="adj" fmla="val 46586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风险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多，威胁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4191120"/>
            <a:ext cx="3124440" cy="1676160"/>
          </a:xfrm>
          <a:prstGeom prst="hexagon">
            <a:avLst>
              <a:gd name="adj" fmla="val 46601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熟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少，威胁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4191120"/>
            <a:ext cx="3124080" cy="1676160"/>
          </a:xfrm>
          <a:prstGeom prst="hexagon">
            <a:avLst>
              <a:gd name="adj" fmla="val 46596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麻烦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少，威胁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0C2-F025-4675-A345-8DD85D1147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五、掌握市场机会的必要条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自身资源与优势的准确估价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市场情报资料的广泛了解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强烈的进取心和高度的敏感性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566-3305-4B37-895C-BEAB68DC0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2T12:13:22Z</dcterms:created>
  <dc:creator>晁钢令</dc:creator>
  <dc:description/>
  <dc:language>en-US</dc:language>
  <cp:lastModifiedBy>晁钢令</cp:lastModifiedBy>
  <cp:lastPrinted>1998-06-24T01:17:20Z</cp:lastPrinted>
  <dcterms:modified xsi:type="dcterms:W3CDTF">2000-03-09T00:09:26Z</dcterms:modified>
  <cp:revision>8</cp:revision>
  <dc:subject/>
  <dc:title>第四讲 市场机会：营销成功的基本前提</dc:title>
</cp:coreProperties>
</file>