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3D872-073F-46F7-ACCE-707A47DA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CDE7-0FAC-42BD-B109-A0A8E1AE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AD7A5-694F-4D0E-8D77-5E7357F9C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0BD88-A609-4F75-BC3D-97551A1DD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717D-0177-4CDB-BF5E-E16B0A85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9C8E-ECB6-41EC-BE17-7742F6111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4F61-D897-4D91-8382-28F05F405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BF86-9972-425C-BC46-2FCEC3AB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7E763-AC0D-45AF-94B8-CC205789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351C-DA21-4AC0-8805-5E618432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2F36-5B42-4B1C-8395-E86DC3981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D01E-9A65-4834-AC7B-4EE31D5ED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E2CE-3233-423D-A367-DC3F291F2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第六讲   市场拓展的决策与策划</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1600200" y="3124080"/>
            <a:ext cx="6775560" cy="2370240"/>
          </a:xfrm>
          <a:prstGeom prst="rect">
            <a:avLst/>
          </a:prstGeom>
          <a:ln w="0">
            <a:noFill/>
          </a:ln>
        </p:spPr>
      </p:pic>
      <p:pic>
        <p:nvPicPr>
          <p:cNvPr id="44" name="" descr=""/>
          <p:cNvPicPr/>
          <p:nvPr/>
        </p:nvPicPr>
        <p:blipFill>
          <a:blip r:embed="rId2"/>
          <a:stretch/>
        </p:blipFill>
        <p:spPr>
          <a:xfrm>
            <a:off x="1523880" y="2743200"/>
            <a:ext cx="3213360" cy="2652840"/>
          </a:xfrm>
          <a:prstGeom prst="rect">
            <a:avLst/>
          </a:prstGeom>
          <a:ln w="0">
            <a:noFill/>
          </a:ln>
          <a:effectLst>
            <a:outerShdw dist="107932" dir="2700000" blurRad="0" rotWithShape="0">
              <a:srgbClr val="660066"/>
            </a:outerShdw>
          </a:effectLst>
        </p:spPr>
      </p:pic>
      <p:sp>
        <p:nvSpPr>
          <p:cNvPr id="4" name="PlaceHolder 3"/>
          <p:cNvSpPr>
            <a:spLocks noGrp="1"/>
          </p:cNvSpPr>
          <p:nvPr>
            <p:ph type="sldNum" idx="3"/>
          </p:nvPr>
        </p:nvSpPr>
        <p:spPr/>
        <p:txBody>
          <a:bodyPr/>
          <a:p>
            <a:fld id="{433EFB56-DEBA-4F66-83CF-0EAAD794234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一、市场拓展的主要任务</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市场拓展即为在扩大产品销量和扩大企业市场份额方面所进行的决策与策划。</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确定目标受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策划促销活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培养忠实顾客。</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B0BCEA-4BDC-45D0-A3A1-0E73796C6B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二、确定目标受众</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目标市场不等于目标受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购买行为的群体决策，</a:t>
            </a: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间接市场的拉动效应</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标受众的接受心理与环境分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楷体_GB2312"/>
                <a:ea typeface="楷体_GB2312"/>
              </a:rPr>
              <a:t>受众心理分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受众环境分析</a:t>
            </a:r>
            <a:r>
              <a:rPr b="1" lang="zh-CN" sz="3200" spc="-1" strike="noStrike">
                <a:solidFill>
                  <a:srgbClr val="000000"/>
                </a:solidFill>
                <a:latin typeface="宋体"/>
              </a:rPr>
              <a:t>。</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1EAA86-39C6-467E-9A6C-6CA3DC18A3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三、策划促销活动</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促销效应目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增加接触机会；</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提高认知程度；</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改变顾客观念</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521CE-70D8-4385-82BE-52EB534908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促销策划</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展示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推广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广告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公关策划。</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E77429-FA14-46A9-9EFC-969F7A228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促销活动的成功要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抓住舆论中心；</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产生独特创意；</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提供附加利益。</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495680" y="2209680"/>
            <a:ext cx="3764160" cy="3535560"/>
          </a:xfrm>
          <a:prstGeom prst="rect">
            <a:avLst/>
          </a:prstGeom>
          <a:ln w="0">
            <a:noFill/>
          </a:ln>
        </p:spPr>
      </p:pic>
      <p:sp>
        <p:nvSpPr>
          <p:cNvPr id="4" name="PlaceHolder 3"/>
          <p:cNvSpPr>
            <a:spLocks noGrp="1"/>
          </p:cNvSpPr>
          <p:nvPr>
            <p:ph type="sldNum" idx="3"/>
          </p:nvPr>
        </p:nvSpPr>
        <p:spPr/>
        <p:txBody>
          <a:bodyPr/>
          <a:p>
            <a:fld id="{8A10DB34-1D01-4217-96B9-B5633496C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四、培养忠实顾客</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品牌忠实度是市场拓展的基本前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影响品牌忠实度的主要因素；</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知名度，质量，服务，购买便利性，沟通度。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3</a:t>
            </a:r>
            <a:r>
              <a:rPr b="1" lang="zh-CN" sz="3200" spc="-1" strike="noStrike">
                <a:solidFill>
                  <a:srgbClr val="000000"/>
                </a:solidFill>
                <a:latin typeface="仿宋_GB2312"/>
                <a:ea typeface="仿宋_GB2312"/>
              </a:rPr>
              <a:t>、留住最优顾客。</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FBA9F-00EA-40A1-B693-CA24FFA5F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留住最优顾客                                    </a:t>
            </a:r>
            <a:endParaRPr b="0" lang="en-US" sz="3200" spc="-1" strike="noStrike">
              <a:solidFill>
                <a:srgbClr val="000000"/>
              </a:solidFill>
              <a:latin typeface="Times New Roman"/>
            </a:endParaRPr>
          </a:p>
        </p:txBody>
      </p:sp>
      <p:sp>
        <p:nvSpPr>
          <p:cNvPr id="60" name=""/>
          <p:cNvSpPr/>
          <p:nvPr/>
        </p:nvSpPr>
        <p:spPr>
          <a:xfrm>
            <a:off x="1143000" y="2133720"/>
            <a:ext cx="6934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0%</a:t>
            </a:r>
            <a:r>
              <a:rPr b="1" lang="zh-CN" sz="3200" spc="-1" strike="noStrike">
                <a:solidFill>
                  <a:srgbClr val="000000"/>
                </a:solidFill>
                <a:latin typeface="宋体"/>
              </a:rPr>
              <a:t>的顾客也许能创造</a:t>
            </a:r>
            <a:r>
              <a:rPr b="1" lang="zh-CN" sz="3200" spc="-1" strike="noStrike">
                <a:solidFill>
                  <a:srgbClr val="000000"/>
                </a:solidFill>
                <a:latin typeface="宋体"/>
              </a:rPr>
              <a:t>70%</a:t>
            </a:r>
            <a:r>
              <a:rPr b="1" lang="zh-CN" sz="3200" spc="-1" strike="noStrike">
                <a:solidFill>
                  <a:srgbClr val="000000"/>
                </a:solidFill>
                <a:latin typeface="宋体"/>
              </a:rPr>
              <a:t>的利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可图的顾客是能不断为企业带来收入，并高于企业的争取成本的顾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测算顾客盈利率。</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5105520" y="4343400"/>
            <a:ext cx="2639880" cy="1733400"/>
          </a:xfrm>
          <a:prstGeom prst="rect">
            <a:avLst/>
          </a:prstGeom>
          <a:ln w="0">
            <a:noFill/>
          </a:ln>
        </p:spPr>
      </p:pic>
      <p:sp>
        <p:nvSpPr>
          <p:cNvPr id="4" name="PlaceHolder 3"/>
          <p:cNvSpPr>
            <a:spLocks noGrp="1"/>
          </p:cNvSpPr>
          <p:nvPr>
            <p:ph type="sldNum" idx="3"/>
          </p:nvPr>
        </p:nvSpPr>
        <p:spPr/>
        <p:txBody>
          <a:bodyPr/>
          <a:p>
            <a:fld id="{C8242FB9-E038-4DC6-AB06-2D1C62B541ED}"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11:43:18Z</dcterms:created>
  <dc:creator>晁钢令</dc:creator>
  <dc:description/>
  <dc:language>en-US</dc:language>
  <cp:lastModifiedBy>晁钢令</cp:lastModifiedBy>
  <dcterms:modified xsi:type="dcterms:W3CDTF">2000-02-09T13:55:29Z</dcterms:modified>
  <cp:revision>5</cp:revision>
  <dc:subject/>
  <dc:title>第六讲   市场拓展的决策与策划</dc:title>
</cp:coreProperties>
</file>