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52F4-985D-4268-B3EB-FE73BBC76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FC51-4070-447D-B30E-7C7DDA1F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8704-ABF7-4CC8-874D-05CD15EF7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D489-58B9-47CE-B345-1C3D0AC68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5BDF-D67C-4E32-8302-F07B9A61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5873-E6DE-4BA6-8D26-8900921C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A1C0-3026-4609-8E24-0316CC67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16BB-CBA1-4241-82D3-BC88A511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367A-AC43-4926-B7C7-7A27EDCF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2F7B-A798-45DA-9733-F83E7335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E16C-14CC-4FDC-B88F-1EBD5DDD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2D88-0DDC-42B9-AEDD-2B3DAF2B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a4a4c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4563-6D9F-414F-88A3-675CB8745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a4a4c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第七讲  市场竞争的决策与策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3352680"/>
            <a:ext cx="5769000" cy="2054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029200" y="2590920"/>
            <a:ext cx="2465280" cy="259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8FE0-3C77-448B-846C-1CCF66F7D79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a4a4c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一、市场竞争的主要理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竞争力理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2362320"/>
            <a:ext cx="2286000" cy="685800"/>
          </a:xfrm>
          <a:prstGeom prst="rect">
            <a:avLst/>
          </a:prstGeom>
          <a:gradFill rotWithShape="0">
            <a:gsLst>
              <a:gs pos="0">
                <a:srgbClr val="99bfbf"/>
              </a:gs>
              <a:gs pos="50000">
                <a:srgbClr val="ccffff"/>
              </a:gs>
              <a:gs pos="100000">
                <a:srgbClr val="99bfbf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潜在进入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1280" y="5638680"/>
            <a:ext cx="2286000" cy="685800"/>
          </a:xfrm>
          <a:prstGeom prst="rect">
            <a:avLst/>
          </a:prstGeom>
          <a:gradFill rotWithShape="0">
            <a:gsLst>
              <a:gs pos="0">
                <a:srgbClr val="99bfbf"/>
              </a:gs>
              <a:gs pos="50000">
                <a:srgbClr val="ccffff"/>
              </a:gs>
              <a:gs pos="100000">
                <a:srgbClr val="99bfbf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替代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3733920"/>
            <a:ext cx="2666880" cy="1143000"/>
          </a:xfrm>
          <a:prstGeom prst="rect">
            <a:avLst/>
          </a:prstGeom>
          <a:gradFill rotWithShape="0">
            <a:gsLst>
              <a:gs pos="0">
                <a:srgbClr val="99bfbf"/>
              </a:gs>
              <a:gs pos="50000">
                <a:srgbClr val="ccffff"/>
              </a:gs>
              <a:gs pos="100000">
                <a:srgbClr val="99bfbf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业竞争对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现有企业竞争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962520"/>
            <a:ext cx="1524240" cy="685800"/>
          </a:xfrm>
          <a:prstGeom prst="rect">
            <a:avLst/>
          </a:prstGeom>
          <a:gradFill rotWithShape="0">
            <a:gsLst>
              <a:gs pos="0">
                <a:srgbClr val="99bfbf"/>
              </a:gs>
              <a:gs pos="50000">
                <a:srgbClr val="ccffff"/>
              </a:gs>
              <a:gs pos="100000">
                <a:srgbClr val="99bfbf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供应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238880" y="3962520"/>
            <a:ext cx="1524240" cy="685800"/>
          </a:xfrm>
          <a:prstGeom prst="rect">
            <a:avLst/>
          </a:prstGeom>
          <a:gradFill rotWithShape="0">
            <a:gsLst>
              <a:gs pos="0">
                <a:srgbClr val="99bfbf"/>
              </a:gs>
              <a:gs pos="50000">
                <a:srgbClr val="ccffff"/>
              </a:gs>
              <a:gs pos="100000">
                <a:srgbClr val="99bfbf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购买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43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648320" y="495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5943600" y="4343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3200400"/>
            <a:ext cx="16765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新进入者威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3886200"/>
            <a:ext cx="106704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侃价实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50640" y="3733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侃价实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5105520"/>
            <a:ext cx="182880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替代品威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E74F-2B2B-4E4F-BC57-AD673049D3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a4a4c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竞争的基本战略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2819520"/>
            <a:ext cx="2362320" cy="1295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总成本领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91320" y="2819520"/>
            <a:ext cx="2361960" cy="1295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标新立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4114800"/>
            <a:ext cx="2362320" cy="1295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本集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4114800"/>
            <a:ext cx="2361960" cy="1295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特色集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4191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82000" y="1111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战略优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42400" y="2950560"/>
            <a:ext cx="606960" cy="20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战略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93640" y="299232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范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09480" y="42670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细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市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60320" y="213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本优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94040" y="213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特色优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4191120"/>
            <a:ext cx="175248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目标市场集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62FA-8FFC-45DE-AACA-446F6676B4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a4a4c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基准营销理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概念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以最主要竞争对手或行业领导者业绩和行为为基准，进行比较、规划、设计、行动，已达到最有目标的经营管理过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71880" y="27432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基准化过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07400" y="33735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基准量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500160" y="3429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基准实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23240" y="4114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基准差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18800" y="457200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程度、何处、何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576480" y="4114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差异弥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12840" y="457200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知识、实践、过程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4952880"/>
            <a:ext cx="2895480" cy="1600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管理责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组织联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全员参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最优运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10080" y="2971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2971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5740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5740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19520" y="44197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4419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ADA9-E700-4126-A442-C0BC10C215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a4a4c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基准化过程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02920" y="14684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计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阶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18760" y="24382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阶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18760" y="34290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综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阶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18760" y="43434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阶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18760" y="52578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阶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66880" y="1371600"/>
            <a:ext cx="5334120" cy="990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决定基准目标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找出同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比较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确定资料收集方式并收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2362320"/>
            <a:ext cx="533412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寻找目前差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规划未来基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66880" y="3352680"/>
            <a:ext cx="533412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研究基准能够接受程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确定管理责任与职能目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4343400"/>
            <a:ext cx="533412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开发行动计划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行动与过程控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重新调整基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66880" y="5334120"/>
            <a:ext cx="533412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取得领先地位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总结并提炼经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010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8458200" y="182844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0010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E5B4-04AE-4097-BCF5-10E7CF1DB1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a4a4c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二、 市场竞争实践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分析竞争态势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企业所处的市场地位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企业的主要竞争对手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企业优劣势分析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竞争环境分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C355-FB4C-4519-A0B0-C8D8E280EC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a4a4c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明确竞争性质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进取性还是防御性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排他性还是共处性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竞争障碍的设置与排除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规模、专利、转换成本、资本、渠道、政策、风险）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C4BB-DFE9-444A-83AC-02582F2FE1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a4a4c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三、具体竞争策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满足潜在需求为目标的竞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先入为主、后发制人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提高满足程度为目标的竞争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外延扩展、内涵改进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确立领先地位为目标的竞争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积极创新、梯度转移、设置陷阱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培养品牌忠实度为目标的竞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实质型、观念型、环境型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762D-81F8-4BE9-924D-88A11F8836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7T13:23:56Z</dcterms:created>
  <dc:creator>晁钢令</dc:creator>
  <dc:description/>
  <dc:language>en-US</dc:language>
  <cp:lastModifiedBy>晁钢令</cp:lastModifiedBy>
  <dcterms:modified xsi:type="dcterms:W3CDTF">2000-02-09T14:00:03Z</dcterms:modified>
  <cp:revision>4</cp:revision>
  <dc:subject/>
  <dc:title>第七讲  市场竞争的决策与策划</dc:title>
</cp:coreProperties>
</file>