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E42B-108B-465D-8F97-2678A761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F110-70EA-4571-8E18-5B41A3E6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29B3-9D62-4DD8-82A9-62953646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7852-335E-48E1-8E40-64117CAD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9FC6-37B4-4272-BCED-582B5763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C0E1-DD90-428D-9F30-10422B91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0432-A51A-453C-8E52-9C42014C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B9C1-4672-4E4A-B8CA-B2C4307C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BAC7-E9D4-48B5-BECD-16B65826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194A-7105-4415-89B6-1B74C8B1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7BF7-93D1-4337-A402-D08E12F2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3721-D9E8-498D-BE26-5917E613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BC64-0A02-4128-A906-B12A2940B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三讲   市场营销调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2350800" cy="2438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505320" y="4495680"/>
            <a:ext cx="3951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六、营销调研报告的撰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1676520"/>
            <a:ext cx="1904760" cy="1714320"/>
          </a:xfrm>
          <a:prstGeom prst="flowChartPunchedTap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报告提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2590920"/>
            <a:ext cx="1905120" cy="1866960"/>
          </a:xfrm>
          <a:prstGeom prst="flowChartPunchedTap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调研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4038480"/>
            <a:ext cx="1828800" cy="1905120"/>
          </a:xfrm>
          <a:prstGeom prst="flowChartPunchedTap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概况描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4343400"/>
            <a:ext cx="1981080" cy="1943280"/>
          </a:xfrm>
          <a:prstGeom prst="flowChartPunchedTap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问题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或预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3048120"/>
            <a:ext cx="1981080" cy="1828800"/>
          </a:xfrm>
          <a:prstGeom prst="flowChartPunchedTap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策建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营销策划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48520" y="3962520"/>
            <a:ext cx="1904760" cy="1676160"/>
          </a:xfrm>
          <a:prstGeom prst="flowChartPunchedTap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附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七、市场调研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定性调查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Qualitative researc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组座谈、深度访问、实验法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定量调查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Quantitative  researc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函电调查、入户访问、拦截访问、观测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调查问卷设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封闭式问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非法（是与否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项选择（三个以上答案供选择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李克量表（在坚决同意和坚决不同意间选择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义级差（在最好和最差之间选择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要量表（在最重要和最部重要之间选择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开放式问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由格式（无任何引导、暗示或限制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填充式（在部完整的语句中填入有关内容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联想式（对于给定的词汇、情节等进行联想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示式（给予一幅图画，增添内容或进行联想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不应采用的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您每月的收入是多少？（涉及隐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您每月的支出是如何分配的？（问题太抽象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您是经常到这家商店来吗？（“经常”的含义是什么？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您喜欢这家企业吗？（回答是否真诚？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星期看到我们的广告几次？（人们无法准确记住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您对我们的商品结构是否满意？（根据什么评价？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您是否赞成这种“削价倾销”的做法？（用词带有明显的倾向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、营销调研的性质和意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质：营销信息的收集、分析、传递和利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提高对营销因素的可控能力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提高对市场机会的分辨能力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提高对市场趋势的预见能力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提高对市场风险的防范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二、营销信息系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信息源       营销分析系统      营销决策     实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市场调研       营销模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输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内部          数据库     决策支    营销经    （ 销售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资料源                       持系统    理决策         利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顾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外部            信息处理专家                            反应）                资料源                                           反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2666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3733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3733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5257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6324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09680" y="5257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2666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3276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3733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267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3733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3733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3733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3733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62720" y="3733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33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4724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5257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52578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58672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05520" y="5257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2971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2920" y="29718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5943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58200" y="29718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2286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2286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228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32767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4038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27672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26708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64832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4267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60958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590920" y="4267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81680" y="60958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48720" y="5943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案头调研（二手资料的收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二手资料来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内部会计系统、相关资料积累、外部情报系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二手资料收集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建立二手资料档案，选择外部资料来源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统一数据名和系统进入方法（分类储存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市场调研（原始资料的收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性调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小组座谈、深度访问、实验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量调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电调查、入户访问、拦截访问、观测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三、市场调研过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905120"/>
            <a:ext cx="1676520" cy="914400"/>
          </a:xfrm>
          <a:prstGeom prst="ellipse">
            <a:avLst/>
          </a:prstGeom>
          <a:gradFill rotWithShape="0">
            <a:gsLst>
              <a:gs pos="0">
                <a:srgbClr val="b3b38f"/>
              </a:gs>
              <a:gs pos="50000">
                <a:srgbClr val="ffffcc"/>
              </a:gs>
              <a:gs pos="100000">
                <a:srgbClr val="b3b38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提出任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2590920"/>
            <a:ext cx="1676520" cy="914400"/>
          </a:xfrm>
          <a:prstGeom prst="ellipse">
            <a:avLst/>
          </a:prstGeom>
          <a:gradFill rotWithShape="0">
            <a:gsLst>
              <a:gs pos="0">
                <a:srgbClr val="b3b38f"/>
              </a:gs>
              <a:gs pos="50000">
                <a:srgbClr val="ffffcc"/>
              </a:gs>
              <a:gs pos="100000">
                <a:srgbClr val="b3b38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确定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3276720"/>
            <a:ext cx="1752840" cy="914400"/>
          </a:xfrm>
          <a:prstGeom prst="ellipse">
            <a:avLst/>
          </a:prstGeom>
          <a:gradFill rotWithShape="0">
            <a:gsLst>
              <a:gs pos="0">
                <a:srgbClr val="b3b38f"/>
              </a:gs>
              <a:gs pos="50000">
                <a:srgbClr val="ffffcc"/>
              </a:gs>
              <a:gs pos="100000">
                <a:srgbClr val="b3b38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确定标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05320" y="3886200"/>
            <a:ext cx="1828800" cy="914400"/>
          </a:xfrm>
          <a:prstGeom prst="ellipse">
            <a:avLst/>
          </a:prstGeom>
          <a:gradFill rotWithShape="0">
            <a:gsLst>
              <a:gs pos="0">
                <a:srgbClr val="b3b38f"/>
              </a:gs>
              <a:gs pos="50000">
                <a:srgbClr val="ffffcc"/>
              </a:gs>
              <a:gs pos="100000">
                <a:srgbClr val="b3b38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1981080"/>
            <a:ext cx="1281240" cy="2133720"/>
          </a:xfrm>
          <a:custGeom>
            <a:avLst/>
            <a:gdLst>
              <a:gd name="textAreaLeft" fmla="*/ 0 w 1281240"/>
              <a:gd name="textAreaRight" fmla="*/ 1281240 w 128124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3b38f"/>
              </a:gs>
              <a:gs pos="50000">
                <a:srgbClr val="ffffcc"/>
              </a:gs>
              <a:gs pos="100000">
                <a:srgbClr val="b3b38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2971800"/>
            <a:ext cx="2057400" cy="1066680"/>
          </a:xfrm>
          <a:prstGeom prst="ellipse">
            <a:avLst/>
          </a:prstGeom>
          <a:gradFill rotWithShape="0">
            <a:gsLst>
              <a:gs pos="0">
                <a:srgbClr val="b3b38f"/>
              </a:gs>
              <a:gs pos="50000">
                <a:srgbClr val="ffffcc"/>
              </a:gs>
              <a:gs pos="100000">
                <a:srgbClr val="b3b38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汇总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3809880"/>
            <a:ext cx="1905120" cy="914400"/>
          </a:xfrm>
          <a:prstGeom prst="ellipse">
            <a:avLst/>
          </a:prstGeom>
          <a:gradFill rotWithShape="0">
            <a:gsLst>
              <a:gs pos="0">
                <a:srgbClr val="b3b38f"/>
              </a:gs>
              <a:gs pos="50000">
                <a:srgbClr val="ffffcc"/>
              </a:gs>
              <a:gs pos="100000">
                <a:srgbClr val="b3b38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整理报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4648320"/>
            <a:ext cx="1904760" cy="990360"/>
          </a:xfrm>
          <a:prstGeom prst="ellipse">
            <a:avLst/>
          </a:prstGeom>
          <a:gradFill rotWithShape="0">
            <a:gsLst>
              <a:gs pos="0">
                <a:srgbClr val="b3b38f"/>
              </a:gs>
              <a:gs pos="50000">
                <a:srgbClr val="ffffcc"/>
              </a:gs>
              <a:gs pos="100000">
                <a:srgbClr val="b3b38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追踪调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四、市场调研的注意要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133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标的选择准确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资料收集全面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析方法科学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环境时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几种典型的市场调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费者调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市场规模、市场结构、购买偏好、行为特征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市场竞争调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供应总量、市场份额、主要品牌、品牌忠实度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流通渠道调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主要流通环节、中间商类型、中间商品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交易条件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市场趋势调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相关因素排列、发展轨迹分析、未来环境变化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商圈调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人口及结构、客流及结构、消费及购物习惯、区域功能性质、商圈竞争状况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企业形象调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知名度、美誉度、偏好度、形象因素评价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9T04:37:59Z</dcterms:created>
  <dc:creator>晁钢令</dc:creator>
  <dc:description/>
  <dc:language>en-US</dc:language>
  <cp:lastModifiedBy>晁钢令</cp:lastModifiedBy>
  <dcterms:modified xsi:type="dcterms:W3CDTF">2000-02-28T12:56:55Z</dcterms:modified>
  <cp:revision>9</cp:revision>
  <dc:subject/>
  <dc:title>第三讲   市场营销调研</dc:title>
</cp:coreProperties>
</file>