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9A63-F150-47A9-838D-7FAB21E1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B282-8DAB-4B33-AFEF-0B8CEFA4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6F2-5226-4961-AE82-F3094251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84A0-A1F3-47D5-94BA-110185AA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6A1C-13E0-4278-A43F-2A07573A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9F2-9F7E-4127-9302-2FC21455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2606-FF5F-487D-A1ED-4491C766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F8DE-49C3-4B75-9B46-D3CB59D2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D49C-2A28-4FC1-9037-A7AC4C79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EC85-799B-4A47-9F7E-75CFB3AE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E81-5269-4B92-B582-E90E38EB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A848-C7E5-4D7D-A91C-20ACC152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f7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E267-DE1C-4123-BB5D-B451A3D8A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f7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四讲  市场开发的决策与策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429000"/>
            <a:ext cx="518472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343400" y="3048120"/>
            <a:ext cx="1090440" cy="227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4414-B231-4D15-9FAB-73A2E8AFA4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f7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五、市场占位策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积极的占位意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占位策略（抢位、错位、让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6DCB-75D2-471D-82E4-074667D672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f7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、市场开发的主要任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企业寻找新的市场领域、投资方向和设计进入方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发现潜在需求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开发适销产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设计进入方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36A9-4D63-42B7-A88E-9104D4D6B5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f7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二、发现潜在需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求研究可发掘无穷的市场资源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递增需求—— 需求的深度发展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派生需求—— 需求的广度发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7E6C-8798-48FC-A75B-C3CE7B5142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f7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三、开发适当产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产品概念的理论深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形与无形 —— 产品外延的深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产品整体概念——产品内涵的深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E28D-45FF-4992-95DD-3E8FF513A6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f7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产品整体概念                    产品需求层次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533520"/>
            <a:ext cx="3733560" cy="4038480"/>
          </a:xfrm>
          <a:prstGeom prst="ellipse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108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066680"/>
            <a:ext cx="2590920" cy="2895840"/>
          </a:xfrm>
          <a:prstGeom prst="ellipse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600200"/>
            <a:ext cx="1676520" cy="1828800"/>
          </a:xfrm>
          <a:prstGeom prst="ellipse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2057400"/>
            <a:ext cx="914400" cy="914400"/>
          </a:xfrm>
          <a:prstGeom prst="ellipse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核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产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80880"/>
            <a:ext cx="4397400" cy="4496040"/>
          </a:xfrm>
          <a:prstGeom prst="ellipse">
            <a:avLst/>
          </a:prstGeom>
          <a:gradFill rotWithShape="0">
            <a:gsLst>
              <a:gs pos="0">
                <a:srgbClr val="755e75"/>
              </a:gs>
              <a:gs pos="50000">
                <a:srgbClr val="ffccff"/>
              </a:gs>
              <a:gs pos="100000">
                <a:srgbClr val="755e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838080"/>
            <a:ext cx="3436920" cy="358164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1371600"/>
            <a:ext cx="2476440" cy="2438280"/>
          </a:xfrm>
          <a:prstGeom prst="ellipse">
            <a:avLst/>
          </a:prstGeom>
          <a:gradFill rotWithShape="0">
            <a:gsLst>
              <a:gs pos="0">
                <a:srgbClr val="755e75"/>
              </a:gs>
              <a:gs pos="50000">
                <a:srgbClr val="ffccff"/>
              </a:gs>
              <a:gs pos="100000">
                <a:srgbClr val="755e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1828800"/>
            <a:ext cx="1600200" cy="16002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209680"/>
            <a:ext cx="879480" cy="8384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核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利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18520" y="17362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形态产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69280" y="1218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附加产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69280" y="6854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文化产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12680" y="19047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基本产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12680" y="14475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期望产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12680" y="9903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扩展产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12680" y="456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潜在产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636E-ECEA-43A2-B8CB-B75BBBA688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f7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标准化产品、细分化产品、系列化产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产品特色的含义与策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产品的“广义包装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78E5-B3A0-4C3B-8864-821C72C934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f7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2286000"/>
            <a:ext cx="1752480" cy="312408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大众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营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2286000"/>
            <a:ext cx="1752840" cy="312408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市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细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2362320"/>
            <a:ext cx="1752480" cy="312408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定制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营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5800" y="8679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定制化营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152C-3F87-4AFC-BB74-B232F1DC54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f7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1600200"/>
            <a:ext cx="2895480" cy="160020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柔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生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1523880"/>
            <a:ext cx="1981080" cy="36576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定制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营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3505320"/>
            <a:ext cx="2895840" cy="1600200"/>
          </a:xfrm>
          <a:custGeom>
            <a:avLst/>
            <a:gdLst>
              <a:gd name="textAreaLeft" fmla="*/ 0 w 2895840"/>
              <a:gd name="textAreaRight" fmla="*/ 2896200 w 289584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组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技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C3D9-C071-4A1D-95B7-0D21BB3952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f7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四、设计进入方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进入期望目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提高知名度、缩短导入期、减少竞争压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要进入方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形象目标（高位型、低位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宣传形式（造势型、渐进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传统关系（创牌型、传牌型、借牌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进入环节（推动型、拉动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F187-7206-47AC-A539-D02254D573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9T08:05:22Z</dcterms:created>
  <dc:creator>晁钢令</dc:creator>
  <dc:description/>
  <dc:language>en-US</dc:language>
  <cp:lastModifiedBy>晁钢令</cp:lastModifiedBy>
  <dcterms:modified xsi:type="dcterms:W3CDTF">2000-04-18T13:41:46Z</dcterms:modified>
  <cp:revision>4</cp:revision>
  <dc:subject/>
  <dc:title>第四讲  市场开发的决策与策划</dc:title>
</cp:coreProperties>
</file>