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4015E-31AA-41EC-BD35-E1A24A856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E69ED-14DA-4C36-9357-1E91BAE94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B67AE-9E07-4A89-BDBE-6032221B5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6E3CE-7108-450E-B30B-C268C6903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11553-9B07-49AD-B98D-7BB6F902D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8196C-12D0-4484-BFA7-41E3C3CEB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C98B4-29FD-4746-BA37-47308A7BE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6BE60-7A14-421E-B584-07AA49D7F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2390C-E3AD-4C8F-B5E1-95707533A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E5E35-9DDB-4D1C-AD83-7A0543E54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9D1FC-6653-4E1D-B18F-8D7EDEEB0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8A38C-56F7-484A-B132-F02AD8CFB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6d92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5ACDD-E8C2-4A25-9C03-A22FED2169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6d92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中宋"/>
                <a:ea typeface="华文中宋"/>
              </a:rPr>
              <a:t>第五讲  市场布局的决策与策划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523880" y="3352680"/>
            <a:ext cx="6400800" cy="20574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666880" y="2743200"/>
            <a:ext cx="1857600" cy="2606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D0218-5554-481A-81E0-DDA2CF2261E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6d92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商圈调查的典型资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762120" y="1676520"/>
          <a:ext cx="7761240" cy="4724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61240" cy="4724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01" name=""/>
          <p:cNvSpPr/>
          <p:nvPr/>
        </p:nvSpPr>
        <p:spPr>
          <a:xfrm>
            <a:off x="762120" y="3048120"/>
            <a:ext cx="7772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133720" y="1676520"/>
            <a:ext cx="0" cy="4724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495680" y="1676520"/>
            <a:ext cx="0" cy="4724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62120" y="4495680"/>
            <a:ext cx="3733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495680" y="21337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553080" y="2133720"/>
            <a:ext cx="0" cy="426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986520" y="3276720"/>
            <a:ext cx="79020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相对距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为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小时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5F5C0-20B3-4C92-AC30-46B90E7EE53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6d92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日用品购买频率对商圈的影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838080" y="2057400"/>
          <a:ext cx="7229520" cy="4192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057400"/>
                    <a:ext cx="7229520" cy="4192560"/>
                  </a:xfrm>
                  <a:prstGeom prst="rect">
                    <a:avLst/>
                  </a:prstGeom>
                  <a:ln w="93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D2698-C8A9-475F-B0D2-04321B8B98B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6d92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五、现代市场布局的发展趋势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连锁经营的发展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网络营销的发展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配送中心与“供应链”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ABF8C-93DF-433E-8578-A5F2B13FE8C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6d92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连锁经营发展迅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全国现有连锁公司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1000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多家，连锁门店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15000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多家，分别比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95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年增长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3.7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倍和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倍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上海现有连锁超市公司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12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家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连锁门店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1100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多家，营业面积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50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。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62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平方米，销售额超过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100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亿元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--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以上为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99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统计数据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EC555-A974-4BDE-B272-D3CB1A76656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6d92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38080" y="7621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世纪之交，中国进入网络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目前中国上网人数已超过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00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万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国家信息产业部预计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005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年，信息经济领域的增加值将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GDP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40%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网络用户将增至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600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万户以上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网上经济的规模将超过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00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亿元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6F7E6-6CCE-4C5A-9017-95156EF6F52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6d92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一、市场布局的重要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最大限度地满足消费需求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最为有效地分销企业产品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最为经济地控制营销成本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83FF6-27B7-480C-9AA4-44DC79885D8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6d92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二、市场布局的主要方针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基本方针：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057400" y="289548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295280" y="3048120"/>
            <a:ext cx="1981440" cy="914400"/>
          </a:xfrm>
          <a:prstGeom prst="ellipse">
            <a:avLst/>
          </a:prstGeom>
          <a:gradFill rotWithShape="0">
            <a:gsLst>
              <a:gs pos="0">
                <a:srgbClr val="9494b9"/>
              </a:gs>
              <a:gs pos="50000">
                <a:srgbClr val="ccccff"/>
              </a:gs>
              <a:gs pos="100000">
                <a:srgbClr val="9494b9"/>
              </a:gs>
            </a:gsLst>
            <a:lin ang="13500000"/>
          </a:gra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广泛布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371600" y="4114800"/>
            <a:ext cx="1981080" cy="914400"/>
          </a:xfrm>
          <a:prstGeom prst="ellipse">
            <a:avLst/>
          </a:prstGeom>
          <a:gradFill rotWithShape="0">
            <a:gsLst>
              <a:gs pos="0">
                <a:srgbClr val="9494b9"/>
              </a:gs>
              <a:gs pos="50000">
                <a:srgbClr val="ccccff"/>
              </a:gs>
              <a:gs pos="100000">
                <a:srgbClr val="9494b9"/>
              </a:gs>
            </a:gsLst>
            <a:lin ang="13500000"/>
          </a:gra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重点布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371600" y="5181480"/>
            <a:ext cx="1981080" cy="914400"/>
          </a:xfrm>
          <a:prstGeom prst="ellipse">
            <a:avLst/>
          </a:prstGeom>
          <a:gradFill rotWithShape="0">
            <a:gsLst>
              <a:gs pos="0">
                <a:srgbClr val="9494b9"/>
              </a:gs>
              <a:gs pos="50000">
                <a:srgbClr val="ccccff"/>
              </a:gs>
              <a:gs pos="100000">
                <a:srgbClr val="9494b9"/>
              </a:gs>
            </a:gsLst>
            <a:lin ang="13500000"/>
          </a:gra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分片布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724280" y="2286000"/>
            <a:ext cx="19814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087880" y="190512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主要策略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52880" y="3124080"/>
            <a:ext cx="2210040" cy="914400"/>
          </a:xfrm>
          <a:prstGeom prst="ellipse">
            <a:avLst/>
          </a:prstGeom>
          <a:gradFill rotWithShape="0">
            <a:gsLst>
              <a:gs pos="0">
                <a:srgbClr val="9494b9"/>
              </a:gs>
              <a:gs pos="50000">
                <a:srgbClr val="ccccff"/>
              </a:gs>
              <a:gs pos="100000">
                <a:srgbClr val="9494b9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区域集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952880" y="4191120"/>
            <a:ext cx="2210040" cy="914400"/>
          </a:xfrm>
          <a:prstGeom prst="ellipse">
            <a:avLst/>
          </a:prstGeom>
          <a:gradFill rotWithShape="0">
            <a:gsLst>
              <a:gs pos="0">
                <a:srgbClr val="9494b9"/>
              </a:gs>
              <a:gs pos="50000">
                <a:srgbClr val="ccccff"/>
              </a:gs>
              <a:gs pos="100000">
                <a:srgbClr val="9494b9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梯度推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5181480"/>
            <a:ext cx="2209680" cy="914400"/>
          </a:xfrm>
          <a:prstGeom prst="ellipse">
            <a:avLst/>
          </a:prstGeom>
          <a:gradFill rotWithShape="0">
            <a:gsLst>
              <a:gs pos="0">
                <a:srgbClr val="9494b9"/>
              </a:gs>
              <a:gs pos="50000">
                <a:srgbClr val="ccccff"/>
              </a:gs>
              <a:gs pos="100000">
                <a:srgbClr val="9494b9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跳跃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21354-34DD-4E62-9851-CF27534832F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6d92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3045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布局决策的主要依据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产品性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区域性质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人口与购买力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购物便利性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交通条件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竞争状况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环境障碍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发展趋势。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9E441-4C15-4F9A-BEA6-ADF23736510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6d92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三、企业分销方式的演进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838080" y="3276720"/>
            <a:ext cx="2586240" cy="266220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757575"/>
              </a:gs>
              <a:gs pos="50000">
                <a:srgbClr val="ffffff"/>
              </a:gs>
              <a:gs pos="100000">
                <a:srgbClr val="757575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传统方式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选择单一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销售渠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352680" y="2362320"/>
            <a:ext cx="2586240" cy="28144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757575"/>
              </a:gs>
              <a:gs pos="50000">
                <a:srgbClr val="ffffff"/>
              </a:gs>
              <a:gs pos="100000">
                <a:srgbClr val="757575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现代方式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建立庞大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分销网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715000" y="1371600"/>
            <a:ext cx="2585880" cy="289080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757575"/>
              </a:gs>
              <a:gs pos="50000">
                <a:srgbClr val="ffffff"/>
              </a:gs>
              <a:gs pos="100000">
                <a:srgbClr val="757575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发展方式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开展积极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网络销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CD65D-1E9A-4423-881C-0DB2365BC2B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6d92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网络销售示意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094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传统销售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网络销售：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满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仿宋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仿宋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仿宋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仿宋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仿宋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需要</a:t>
            </a:r>
            <a:r>
              <a:rPr b="0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2120" y="2286000"/>
            <a:ext cx="1676160" cy="9144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供应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743200" y="2286000"/>
            <a:ext cx="1828800" cy="9144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批发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876920" y="2286000"/>
            <a:ext cx="1828800" cy="9144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零售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010280" y="2286000"/>
            <a:ext cx="1676520" cy="9144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消费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438280" y="2666880"/>
            <a:ext cx="304920" cy="3049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572000" y="2666880"/>
            <a:ext cx="304920" cy="3049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705720" y="2666880"/>
            <a:ext cx="304560" cy="3049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914400" y="4343400"/>
            <a:ext cx="1523880" cy="18288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供应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086600" y="4267080"/>
            <a:ext cx="1523880" cy="18288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客户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114800" y="4572000"/>
            <a:ext cx="1295280" cy="144792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网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中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438280" y="4419720"/>
            <a:ext cx="1662120" cy="1752480"/>
          </a:xfrm>
          <a:prstGeom prst="rightArrow">
            <a:avLst>
              <a:gd name="adj1" fmla="val 62370"/>
              <a:gd name="adj2" fmla="val 25028"/>
            </a:avLst>
          </a:prstGeom>
          <a:solidFill>
            <a:srgbClr val="ffcc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资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信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486400" y="4495680"/>
            <a:ext cx="1600200" cy="1676520"/>
          </a:xfrm>
          <a:prstGeom prst="leftArrow">
            <a:avLst>
              <a:gd name="adj1" fmla="val 64324"/>
              <a:gd name="adj2" fmla="val 25042"/>
            </a:avLst>
          </a:prstGeom>
          <a:solidFill>
            <a:srgbClr val="ffccff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市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信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438280" y="4419720"/>
            <a:ext cx="4648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2514600" y="6095880"/>
            <a:ext cx="457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6AA67-6A6D-4447-8DDC-BFC9FBCCF19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6d92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网络销售必要的前提条件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网络销售必须建立顾客资料库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网络销售必须建立稳定供应链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网络销售必须建立便捷沟通方式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网络销售必须提供完善配套服务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网络销售必须进行宣传和包装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9AE97-42DC-4A91-B605-96AFD17228F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6d92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四、商业布局的基本原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商圈”理论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仿宋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“</a:t>
            </a:r>
            <a:r>
              <a:rPr b="0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商圈”的含义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仿宋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影响“商圈”的基本因素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仿宋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引客效应（向心力）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仿宋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相对距离（辐射力）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仿宋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外在竞争（离心力）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仿宋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自然障碍（偏心度）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6ED12-2550-4450-984C-1E840BBB5CE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6d92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商圈吸引力的估算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仿宋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                    </a:t>
            </a:r>
            <a:r>
              <a:rPr b="0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第三商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仿宋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                    </a:t>
            </a:r>
            <a:r>
              <a:rPr b="0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第二商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    </a:t>
            </a:r>
            <a:r>
              <a:rPr b="0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第一商圈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990720" y="1905120"/>
            <a:ext cx="3581280" cy="3809880"/>
          </a:xfrm>
          <a:prstGeom prst="ellipse">
            <a:avLst/>
          </a:prstGeom>
          <a:gradFill rotWithShape="0">
            <a:gsLst>
              <a:gs pos="0">
                <a:srgbClr val="9d9dc5"/>
              </a:gs>
              <a:gs pos="50000">
                <a:srgbClr val="ccccff"/>
              </a:gs>
              <a:gs pos="100000">
                <a:srgbClr val="9d9dc5"/>
              </a:gs>
            </a:gsLst>
            <a:lin ang="81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5%-1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590920" y="380988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590920" y="373392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523880" y="2514600"/>
            <a:ext cx="2514600" cy="2590920"/>
          </a:xfrm>
          <a:prstGeom prst="ellipse">
            <a:avLst/>
          </a:prstGeom>
          <a:gradFill rotWithShape="0">
            <a:gsLst>
              <a:gs pos="0">
                <a:srgbClr val="94abb9"/>
              </a:gs>
              <a:gs pos="50000">
                <a:srgbClr val="ccecff"/>
              </a:gs>
              <a:gs pos="100000">
                <a:srgbClr val="94abb9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0%-2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057400" y="3048120"/>
            <a:ext cx="1447920" cy="1523880"/>
          </a:xfrm>
          <a:prstGeom prst="ellipse">
            <a:avLst/>
          </a:prstGeom>
          <a:gradFill rotWithShape="0">
            <a:gsLst>
              <a:gs pos="0">
                <a:srgbClr val="a7a7a7"/>
              </a:gs>
              <a:gs pos="50000">
                <a:srgbClr val="ffffff"/>
              </a:gs>
              <a:gs pos="100000">
                <a:srgbClr val="a7a7a7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0%-4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124080" y="3429000"/>
            <a:ext cx="2590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352680" y="281952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505320" y="220968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33867-B8CA-4CF9-8902-C1722E80821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7T15:24:05Z</dcterms:created>
  <dc:creator>晁钢令</dc:creator>
  <dc:description/>
  <dc:language>en-US</dc:language>
  <cp:lastModifiedBy>晁钢令</cp:lastModifiedBy>
  <dcterms:modified xsi:type="dcterms:W3CDTF">2000-05-01T13:21:14Z</dcterms:modified>
  <cp:revision>8</cp:revision>
  <dc:subject/>
  <dc:title>第五讲  市场布局的决策与策划</dc:title>
</cp:coreProperties>
</file>