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5E7-DBEC-4F85-BAB0-89C50CB7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43C-2DCE-452B-B740-B2812F9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128-2441-4B9C-9799-86422E50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92C-1C79-46F9-80F1-7D9F5C70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A41-4592-4090-83A9-8782DA9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CAF-81FC-46CD-9277-EDDF1B9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A53-B757-4459-A8F7-4F37AB9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27B-2E15-46F0-8902-4D53370F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41B-2BEA-4276-8197-04974541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2D0-32F2-4EAD-99B0-1504A44A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375-B2FB-4678-A78A-A9C309A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F42-19FB-460B-B40E-F593C66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1DFA-CD0F-4181-96CD-015B115B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营销决策与策划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晁钢令  主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5715000" cy="19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288-293B-4F67-8F89-1F4A9A0883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野马车”的上市策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666880"/>
            <a:ext cx="1143000" cy="13716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895480"/>
            <a:ext cx="1828800" cy="1171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743200"/>
            <a:ext cx="976320" cy="1095480"/>
          </a:xfrm>
          <a:custGeom>
            <a:avLst/>
            <a:gdLst>
              <a:gd name="textAreaLeft" fmla="*/ 0 w 976320"/>
              <a:gd name="textAreaRight" fmla="*/ 976680 w 9763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3048120"/>
            <a:ext cx="1890720" cy="152388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981080"/>
            <a:ext cx="1904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657600"/>
            <a:ext cx="1828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2362320"/>
            <a:ext cx="2043000" cy="1323720"/>
          </a:xfrm>
          <a:custGeom>
            <a:avLst/>
            <a:gdLst>
              <a:gd name="textAreaLeft" fmla="*/ 0 w 2043000"/>
              <a:gd name="textAreaRight" fmla="*/ 2043360 w 204300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3200400"/>
            <a:ext cx="1981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419720"/>
            <a:ext cx="1981080" cy="14475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8560" y="2286000"/>
            <a:ext cx="9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50200" y="316872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1800" y="393048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持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47480" y="243828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贴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1360" y="342900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648320"/>
            <a:ext cx="1981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渠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371-E4A3-4EEF-90FF-0938EB3D3E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五、营销计划书的编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971800"/>
            <a:ext cx="914400" cy="2590920"/>
          </a:xfrm>
          <a:custGeom>
            <a:avLst/>
            <a:gdLst>
              <a:gd name="textAreaLeft" fmla="*/ 0 w 914400"/>
              <a:gd name="textAreaRight" fmla="*/ 914760 w 9144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971800"/>
            <a:ext cx="838080" cy="2514600"/>
          </a:xfrm>
          <a:custGeom>
            <a:avLst/>
            <a:gdLst>
              <a:gd name="textAreaLeft" fmla="*/ 0 w 838080"/>
              <a:gd name="textAreaRight" fmla="*/ 838440 w 8380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971800"/>
            <a:ext cx="1066680" cy="25146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/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2971800"/>
            <a:ext cx="914400" cy="2514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2971800"/>
            <a:ext cx="914400" cy="2514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971800"/>
            <a:ext cx="838440" cy="2514600"/>
          </a:xfrm>
          <a:custGeom>
            <a:avLst/>
            <a:gdLst>
              <a:gd name="textAreaLeft" fmla="*/ 0 w 838440"/>
              <a:gd name="textAreaRight" fmla="*/ 838800 w 8384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971800"/>
            <a:ext cx="838080" cy="2514600"/>
          </a:xfrm>
          <a:custGeom>
            <a:avLst/>
            <a:gdLst>
              <a:gd name="textAreaLeft" fmla="*/ 0 w 838080"/>
              <a:gd name="textAreaRight" fmla="*/ 838440 w 8380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971800"/>
            <a:ext cx="914400" cy="2514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158-3508-4845-93C0-F6FD3B1B9A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六、营销策划运用的科学原理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理经济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最优化法则、成本效益分析、风险分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理哲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系统论、控制论、信息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市场机会、目标市场、营销策略组合、营销控制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123-9C09-484B-B9BD-B199F09A6C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结论：科学与智慧的组合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是一门科学：有抽象的理论与基本的规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是一门艺术：需要新颖的创意和动人的魅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在实践中的再创造，市场营销就无生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554120" cy="18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AC2-2BF7-43A1-B12A-46E23A66E5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华文中宋"/>
                <a:ea typeface="华文中宋"/>
              </a:rPr>
              <a:t>第一讲     概    述</a:t>
            </a: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一、营销决策与策划的重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是一门经营哲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环境变化需要科学决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企业家必须善于策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BA2-F5DE-467C-901E-56D354AD3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市场营销学是一门经营哲学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毫不奇怪，今天能取得胜利的公司必定是那些最能使它们的目标顾客得到满足，并感到愉悦的公司。这些公司把市场营销看成是公司整体的哲学，而不仅仅是某一部门的个别职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－ 菲利普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科特勒《营销管理》第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版序言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这本书在使读者掌握企业提高市场契合度和顾客认同度的同时，更给读者带来了对市场营销哲学的生动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－菲利普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科特勒 《营销管理（亚洲版〕》序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4DF-6FEB-4C28-AA31-83722B4E0E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市场营销学是一门经营哲学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286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057400"/>
            <a:ext cx="5257800" cy="9907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8" y="0"/>
                </a:lnTo>
                <a:lnTo>
                  <a:pt x="21600" y="10800"/>
                </a:lnTo>
                <a:lnTo>
                  <a:pt x="161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fbf9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顾客需要的满足为核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429000"/>
            <a:ext cx="5257800" cy="9907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8" y="0"/>
                </a:lnTo>
                <a:lnTo>
                  <a:pt x="21600" y="10800"/>
                </a:lnTo>
                <a:lnTo>
                  <a:pt x="161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fbf9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企业长期的发展为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5257800" cy="9907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8" y="0"/>
                </a:lnTo>
                <a:lnTo>
                  <a:pt x="21600" y="10800"/>
                </a:lnTo>
                <a:lnTo>
                  <a:pt x="161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fbf9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营销策略的组合为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6400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057400"/>
            <a:ext cx="1905120" cy="1066680"/>
          </a:xfrm>
          <a:prstGeom prst="ellipse">
            <a:avLst/>
          </a:prstGeom>
          <a:gradFill rotWithShape="0">
            <a:gsLst>
              <a:gs pos="0">
                <a:srgbClr val="d7acd7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质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352680"/>
            <a:ext cx="1905120" cy="1067040"/>
          </a:xfrm>
          <a:prstGeom prst="ellipse">
            <a:avLst/>
          </a:prstGeom>
          <a:gradFill rotWithShape="0">
            <a:gsLst>
              <a:gs pos="0">
                <a:srgbClr val="d7acd7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态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4800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d7acd7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E22-1C6F-468A-BBC8-6375E20B8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市场环境变化需要科学决策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供求关系发生根本变化，短缺经济现象基本结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企业制度建立，企业职能发生重大变化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外开放步伐加快，国内市场国际化现象已经形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62F-946C-43DD-BAF0-DCC287268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现代企业家必须善于策划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需要明显的个性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才”与“帅才”的区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企业家的地位、责任与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416-E478-4773-8740-22C6AB054C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二、营销决策与策划的主要任务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机会的分析与利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决策与市场开发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渠道决策与市场布局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销决策与市场拓展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竞争决策与市场竞争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销控制与策划效果的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1BF-C806-4D0E-8E56-025F798265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 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三、企业营销部的主要职能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  <a:ea typeface="华文中宋"/>
              </a:rPr>
              <a:t>：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057400"/>
            <a:ext cx="281952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市场调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343400"/>
            <a:ext cx="281952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营销策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981080"/>
            <a:ext cx="281916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企业诊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267080"/>
            <a:ext cx="281916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决策咨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8CD-FD81-4085-806E-7E4E4C3C4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四、营销策划的基本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057400"/>
            <a:ext cx="182880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研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514600"/>
            <a:ext cx="2057400" cy="1295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定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581280"/>
            <a:ext cx="198108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3200400"/>
            <a:ext cx="2057400" cy="1295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定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267080"/>
            <a:ext cx="198108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施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5181480"/>
            <a:ext cx="182880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效果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9DA-B2E2-450B-885A-BBA3A5D69D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5T06:24:52Z</dcterms:created>
  <dc:creator>晁钢令</dc:creator>
  <dc:description/>
  <dc:language>en-US</dc:language>
  <cp:lastModifiedBy>晁钢令</cp:lastModifiedBy>
  <dcterms:modified xsi:type="dcterms:W3CDTF">2000-02-09T12:51:13Z</dcterms:modified>
  <cp:revision>16</cp:revision>
  <dc:subject/>
  <dc:title>营销决策与策划</dc:title>
</cp:coreProperties>
</file>